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6524-733D-4E54-ABB5-8DF0A1E1D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74D6-F6E4-471E-B018-06F43477E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du.pe.ca/southernkings/microfung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re what type of microscopic fungi this is…looks like an image of hyph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127E-728A-4486-8091-A200B7CDD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903.nicerweb.com/Locked/media/ch31/phyl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5D3B-5CDD-4072-9402-5839723F1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ulty.college-prep.org/~bernie/sciproject/project/Kingdoms/Fungi5/Fungi_Evolu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887B-0AFF-41A1-900E-00C39ADBB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b.nicerweb.net/Locked/media/lab/diversity/fungi/key115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EBAF-CF73-46EC-B68E-A631077D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C693-B310-466F-BFFF-654C2747D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esources.schoolscience.co.uk/SGM/sgmmicrobe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fr.wikipedia.org/wiki/Fichier:Yeast_lifecycle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4EB8-E4F8-46CB-ADF0-BF0AFA695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46BB-4815-4A43-952F-F1A0F5457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Fungi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om: http://rachaelherbert.blogspot.ca/2010/04/happy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679C-DDA9-4097-9E94-BCBD8B7B9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ile:Orange_and_white_lich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0F9F-BA12-4C24-A19A-F3AFD6C90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reenmanconservation.co.uk/Mycorrhiz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D7B9-859E-4FAC-B763-DC9C1D68F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lbertan1956.blogspot.ca/2011/01/leaf-cutter-ants-overachievers-of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4832-9EE3-4041-9375-A91F552CE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wise from top left:</a:t>
            </a:r>
            <a:r>
              <a:rPr b="0" i="1" lang="en-US" sz="1200" spc="-1" strike="noStrike">
                <a:solidFill>
                  <a:srgbClr val="2048a8"/>
                </a:solidFill>
                <a:latin typeface="Arial"/>
              </a:rPr>
              <a:t>Amanita muscar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 basidiomycete;</a:t>
            </a:r>
            <a:r>
              <a:rPr b="0" i="1" lang="en-US" sz="1200" spc="-1" strike="noStrike">
                <a:solidFill>
                  <a:srgbClr val="2048a8"/>
                </a:solidFill>
                <a:latin typeface="Arial"/>
              </a:rPr>
              <a:t>Sarcoscypha coccin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 ascomycete;bread covered in </a:t>
            </a:r>
            <a:r>
              <a:rPr b="0" lang="en-US" sz="1200" spc="-1" strike="noStrike">
                <a:solidFill>
                  <a:srgbClr val="2048a8"/>
                </a:solidFill>
                <a:latin typeface="Arial"/>
              </a:rPr>
              <a:t>m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a </a:t>
            </a:r>
            <a:r>
              <a:rPr b="0" lang="en-US" sz="1200" spc="-1" strike="noStrike">
                <a:solidFill>
                  <a:srgbClr val="2048a8"/>
                </a:solidFill>
                <a:latin typeface="Arial"/>
              </a:rPr>
              <a:t>chyt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an </a:t>
            </a:r>
            <a:r>
              <a:rPr b="0" i="1" lang="en-US" sz="1200" spc="-1" strike="noStrike">
                <a:solidFill>
                  <a:srgbClr val="2048a8"/>
                </a:solidFill>
                <a:latin typeface="Arial"/>
              </a:rPr>
              <a:t>Aspergill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048a8"/>
                </a:solidFill>
                <a:latin typeface="Arial"/>
              </a:rPr>
              <a:t>conidioph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275E-08CF-4430-B80B-86E38CF6C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zazzle.ca/i_love_fungi_mug-1680347453429755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like penicillin (antibiotic), cyclosporine (for organ trans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6C64-90CD-4D7B-A3BA-5D06E6192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hotoshopcontest.com/view-entry/183031/angry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episode description &amp; video: http://www.cbc.ca/natureofthings/features/fungi-are-responsible-for-life-on-land-as-we-know-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6CE8-0D1A-446A-958E-AA4703A38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3C5A-21B4-4226-98BB-27ACF89D6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info_8584629_similarities-between-plants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938-B9EF-4A28-B5CD-F88788ADC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info_8584629_similarities-between-plants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3370-3C4C-4BE0-B316-CB7CE8B8D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haron-taxonomy2009-p3.wikispaces.com/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Fungi are more closely related to animals, no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D2F7-EEE6-4A77-A16F-56E599A00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66F1-6279-494D-8BC0-E0CBEC283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bio1903.nicerweb.com/Locked/media/ch31/fungus-struc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75D9-627B-4F16-99A6-AACD06AC3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E9A-A075-491A-AFD4-AE928A61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645-3384-4FC6-AC50-F370FE58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10C-D94A-4375-A6B1-0A0CB80F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E4C-02AA-40EA-9F57-A1476287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57A-E53B-47B4-B1FB-AEB7E36E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8A5-5D19-4772-94D1-CBC88F00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D98-0C9A-4B78-AE4E-81CAE0EF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344-4C96-40E3-A2CA-908530FD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4E6-D11E-4197-A4E8-43C39A58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359-9E13-456F-9F10-7301E482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CAF-522A-4A0D-B4A8-6266D5A3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40C-AB9C-4F5D-A42C-17614E50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6BA8-129C-40F2-83D3-40C308857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31_09FungalPhylogeny"/>
          <p:cNvPicPr/>
          <p:nvPr/>
        </p:nvPicPr>
        <p:blipFill>
          <a:blip r:embed="rId1"/>
          <a:stretch/>
        </p:blipFill>
        <p:spPr>
          <a:xfrm>
            <a:off x="2028960" y="609480"/>
            <a:ext cx="508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phylogeny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re complicated, with stages of sexual &amp; asexual reproduction (alternation of gener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sidiomyce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ch as mushrooms) sometimes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karyo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 with 2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 of Basidomyc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9" descr="31_20BasidioLifCycl.jpg"/>
          <p:cNvPicPr/>
          <p:nvPr/>
        </p:nvPicPr>
        <p:blipFill>
          <a:blip r:embed="rId1"/>
          <a:srcRect l="-38402" t="0" r="-38402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es by 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y evolved from multicellular fun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yeast"/>
          <p:cNvPicPr/>
          <p:nvPr/>
        </p:nvPicPr>
        <p:blipFill>
          <a:blip r:embed="rId1"/>
          <a:stretch/>
        </p:blipFill>
        <p:spPr>
          <a:xfrm>
            <a:off x="4648320" y="2482920"/>
            <a:ext cx="3809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ast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5" descr="800px-Yeast_lifecycle.svg.png"/>
          <p:cNvPicPr/>
          <p:nvPr/>
        </p:nvPicPr>
        <p:blipFill>
          <a:blip r:embed="rId1"/>
          <a:srcRect l="-14097" t="0" r="-14097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ers (like bacte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ymbiotic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4520558924_9acd76afca"/>
          <p:cNvPicPr/>
          <p:nvPr/>
        </p:nvPicPr>
        <p:blipFill>
          <a:blip r:embed="rId1"/>
          <a:stretch/>
        </p:blipFill>
        <p:spPr>
          <a:xfrm>
            <a:off x="4419720" y="1905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i + cyanobacteri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en al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800px-Orange_and_white_lichen"/>
          <p:cNvPicPr/>
          <p:nvPr/>
        </p:nvPicPr>
        <p:blipFill>
          <a:blip r:embed="rId1"/>
          <a:stretch/>
        </p:blipFill>
        <p:spPr>
          <a:xfrm>
            <a:off x="4038480" y="24289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rrhi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al mycelium grows around or within root cells of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29" descr="Mycorrhizal_Root_Tips"/>
          <p:cNvPicPr/>
          <p:nvPr/>
        </p:nvPicPr>
        <p:blipFill>
          <a:blip r:embed="rId1"/>
          <a:stretch/>
        </p:blipFill>
        <p:spPr>
          <a:xfrm>
            <a:off x="4191120" y="2330280"/>
            <a:ext cx="4495680" cy="33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-Cutter 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s clean and chew leaves to feed fun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eats fung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Leaf-Cutting-Ants-Photographic-Print-C12816629"/>
          <p:cNvPicPr/>
          <p:nvPr/>
        </p:nvPicPr>
        <p:blipFill>
          <a:blip r:embed="rId1"/>
          <a:stretch/>
        </p:blipFill>
        <p:spPr>
          <a:xfrm>
            <a:off x="4495680" y="2448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Fung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689px-Fungi_collage"/>
          <p:cNvPicPr/>
          <p:nvPr/>
        </p:nvPicPr>
        <p:blipFill>
          <a:blip r:embed="rId1"/>
          <a:stretch/>
        </p:blipFill>
        <p:spPr>
          <a:xfrm>
            <a:off x="1684440" y="1523880"/>
            <a:ext cx="5775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benefi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ble mushrooms, truff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soy sauce, bread, blue chees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of alcoholic beverages &amp; som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i_love_fungi_mug-p168034745342975532enw9p_400"/>
          <p:cNvPicPr/>
          <p:nvPr/>
        </p:nvPicPr>
        <p:blipFill>
          <a:blip r:embed="rId1"/>
          <a:stretch/>
        </p:blipFill>
        <p:spPr>
          <a:xfrm>
            <a:off x="4419720" y="186696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ful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al animal diseases (athle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oot, ringworm, aspergillosi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ungal plant diseases (apple scab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gy1jll286e73vogec1bsy1mwnux7tzggwhgw"/>
          <p:cNvPicPr/>
          <p:nvPr/>
        </p:nvPicPr>
        <p:blipFill>
          <a:blip r:embed="rId1"/>
          <a:stretch/>
        </p:blipFill>
        <p:spPr>
          <a:xfrm>
            <a:off x="4267080" y="230508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great episode on Fungi last Sunday.  Watch the first section to get an idea of the diversity, structure, and evolutionary importance of fun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7" descr="Unknown.jpeg"/>
          <p:cNvPicPr/>
          <p:nvPr/>
        </p:nvPicPr>
        <p:blipFill>
          <a:blip r:embed="rId1"/>
          <a:srcRect l="0" t="-46097" r="0" b="-4609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ities to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sess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ungi also grow in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article-new-thumbnail-ehow-images-a08-5v-dl-similarities-between-plants-fungi-800x800"/>
          <p:cNvPicPr/>
          <p:nvPr/>
        </p:nvPicPr>
        <p:blipFill>
          <a:blip r:embed="rId1"/>
          <a:stretch/>
        </p:blipFill>
        <p:spPr>
          <a:xfrm>
            <a:off x="4191120" y="2611440"/>
            <a:ext cx="4267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fro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05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hotosyn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structures (e.g. cell w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article-new-thumbnail-ehow-images-a08-5v-dl-similarities-between-plants-fungi-800x800"/>
          <p:cNvPicPr/>
          <p:nvPr/>
        </p:nvPicPr>
        <p:blipFill>
          <a:blip r:embed="rId1"/>
          <a:stretch/>
        </p:blipFill>
        <p:spPr>
          <a:xfrm>
            <a:off x="4191120" y="2611440"/>
            <a:ext cx="4267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28_04EukPhylogeny"/>
          <p:cNvPicPr/>
          <p:nvPr/>
        </p:nvPicPr>
        <p:blipFill>
          <a:blip r:embed="rId1"/>
          <a:stretch/>
        </p:blipFill>
        <p:spPr>
          <a:xfrm>
            <a:off x="304920" y="590400"/>
            <a:ext cx="85341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gi are heterotrophic with extern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structures usually abov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usually below ground (branched network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h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cel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31_02FungusStructure"/>
          <p:cNvPicPr/>
          <p:nvPr/>
        </p:nvPicPr>
        <p:blipFill>
          <a:blip r:embed="rId1"/>
          <a:stretch/>
        </p:blipFill>
        <p:spPr>
          <a:xfrm>
            <a:off x="658800" y="380880"/>
            <a:ext cx="78264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ty of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ajor phyla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sidomyc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cludes most mush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ygomyc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cludes many mou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comyc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cludes y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5:41:56Z</dcterms:created>
  <dc:creator>rubina khan</dc:creator>
  <dc:description/>
  <dc:language>en-US</dc:language>
  <cp:lastModifiedBy>rubina khan</cp:lastModifiedBy>
  <dcterms:modified xsi:type="dcterms:W3CDTF">2018-04-18T15:15:48Z</dcterms:modified>
  <cp:revision>106</cp:revision>
  <dc:subject/>
  <dc:title>PowerPoint Presentation</dc:title>
</cp:coreProperties>
</file>